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78EF0A-AAD2-4D17-86B3-1C794B96A3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F7E59F-2B4B-47BF-8509-BEB25B74ED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C545DF-B025-4323-820B-485086457D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131B29-6911-4A87-9C0B-70E879C196F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5B2EF1-5A9F-4D0C-9319-3B4D6BF2482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6BB762-6CF5-42CD-B6ED-832E91DE996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868D4C-6D0D-4A95-903A-83AD3161304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CB48F3-9040-48BB-B38B-ABF96D64175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E641AF-7D6F-492E-B2CB-F61DA81820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B012BD-FD5F-433A-A52D-6B8B61FBAE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87B342-F1B4-4FD0-BA3A-88B1C29041A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0ED82F-34CA-445F-A203-3A24931677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F15CC-D815-42AF-B0D3-C1718F028E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1"/>
          <a:stretch/>
        </p:blipFill>
        <p:spPr>
          <a:xfrm>
            <a:off x="5468760" y="2612880"/>
            <a:ext cx="295560" cy="587520"/>
          </a:xfrm>
          <a:prstGeom prst="rect">
            <a:avLst/>
          </a:prstGeom>
          <a:ln w="0">
            <a:noFill/>
          </a:ln>
        </p:spPr>
      </p:pic>
      <p:grpSp>
        <p:nvGrpSpPr>
          <p:cNvPr id="41" name=""/>
          <p:cNvGrpSpPr/>
          <p:nvPr/>
        </p:nvGrpSpPr>
        <p:grpSpPr>
          <a:xfrm>
            <a:off x="1824120" y="1422360"/>
            <a:ext cx="312480" cy="495360"/>
            <a:chOff x="1824120" y="1422360"/>
            <a:chExt cx="312480" cy="495360"/>
          </a:xfrm>
        </p:grpSpPr>
        <p:sp>
          <p:nvSpPr>
            <p:cNvPr id="42" name=""/>
            <p:cNvSpPr/>
            <p:nvPr/>
          </p:nvSpPr>
          <p:spPr>
            <a:xfrm>
              <a:off x="1902240" y="142236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980360" y="156384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flipH="1">
              <a:off x="1862640" y="177624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980360" y="177624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824120" y="167004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2590920" y="12286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629080" y="129060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438800" y="129528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4676760" y="145584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701880" y="1600200"/>
            <a:ext cx="71460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90920" y="190800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890800" y="187164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131920" y="1616040"/>
            <a:ext cx="46512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14680" y="1066680"/>
            <a:ext cx="547920" cy="106704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45080" y="198108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932280" y="114300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432160" y="91440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11040" y="1587600"/>
            <a:ext cx="1295640" cy="304560"/>
          </a:xfrm>
          <a:custGeom>
            <a:avLst/>
            <a:gdLst>
              <a:gd name="textAreaLeft" fmla="*/ 202320 w 1295640"/>
              <a:gd name="textAreaRight" fmla="*/ 1134000 w 129564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9036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SK Roll-Over – Double-Signature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5703840" y="1752480"/>
            <a:ext cx="312840" cy="495360"/>
            <a:chOff x="5703840" y="1752480"/>
            <a:chExt cx="312840" cy="495360"/>
          </a:xfrm>
        </p:grpSpPr>
        <p:sp>
          <p:nvSpPr>
            <p:cNvPr id="62" name=""/>
            <p:cNvSpPr/>
            <p:nvPr/>
          </p:nvSpPr>
          <p:spPr>
            <a:xfrm>
              <a:off x="5781960" y="175248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860080" y="189396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>
              <a:off x="5742360" y="210636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60080" y="210636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703840" y="2000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5268960" y="256392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550200" y="1467000"/>
            <a:ext cx="112680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575400" y="160344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77080" y="2109960"/>
            <a:ext cx="63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558120" y="2146320"/>
            <a:ext cx="11127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5"/>
          <a:stretch/>
        </p:blipFill>
        <p:spPr>
          <a:xfrm>
            <a:off x="8302680" y="85716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8531280" y="93348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ld 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Document"/>
          <p:cNvSpPr/>
          <p:nvPr/>
        </p:nvSpPr>
        <p:spPr>
          <a:xfrm>
            <a:off x="6603840" y="7812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562800" y="87012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Document"/>
          <p:cNvSpPr/>
          <p:nvPr/>
        </p:nvSpPr>
        <p:spPr>
          <a:xfrm>
            <a:off x="7230960" y="78120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178760" y="87012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8469360" y="26859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8415360" y="26989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7958160" y="2990880"/>
            <a:ext cx="312840" cy="501480"/>
            <a:chOff x="7958160" y="2990880"/>
            <a:chExt cx="312840" cy="501480"/>
          </a:xfrm>
        </p:grpSpPr>
        <p:sp>
          <p:nvSpPr>
            <p:cNvPr id="81" name=""/>
            <p:cNvSpPr/>
            <p:nvPr/>
          </p:nvSpPr>
          <p:spPr>
            <a:xfrm>
              <a:off x="8036280" y="29908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114400" y="31341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flipH="1">
              <a:off x="7996680" y="33490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8114400" y="33490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958160" y="324144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"/>
          <p:cNvSpPr/>
          <p:nvPr/>
        </p:nvSpPr>
        <p:spPr>
          <a:xfrm flipH="1">
            <a:off x="7692840" y="1162080"/>
            <a:ext cx="6094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991120" y="1955880"/>
            <a:ext cx="559080" cy="6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784760" y="1359000"/>
            <a:ext cx="1765440" cy="241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 flipV="1">
            <a:off x="6854760" y="123804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7388280" y="123804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108920" y="2362320"/>
            <a:ext cx="1346040" cy="393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8186400" y="283860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577280" y="37688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602480" y="398160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585200" y="4449600"/>
            <a:ext cx="1100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877160" y="4400640"/>
            <a:ext cx="61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110440" y="34606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950000" y="1739880"/>
            <a:ext cx="787320" cy="22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6"/>
          <a:stretch/>
        </p:blipFill>
        <p:spPr>
          <a:xfrm>
            <a:off x="7927920" y="503388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7616880" y="60357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Two Max Zone TTL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653240" y="4971960"/>
            <a:ext cx="939960" cy="1733760"/>
          </a:xfrm>
          <a:custGeom>
            <a:avLst/>
            <a:gdLst>
              <a:gd name="textAreaLeft" fmla="*/ 45720 w 939960"/>
              <a:gd name="textAreaRight" fmla="*/ 894240 w 939960"/>
              <a:gd name="textAreaTop" fmla="*/ 45720 h 1733760"/>
              <a:gd name="textAreaBottom" fmla="*/ 1688040 h 1733760"/>
            </a:gdLst>
            <a:ahLst/>
            <a:rect l="textAreaLeft" t="textAreaTop" r="textAreaRight" b="textAreaBottom"/>
            <a:pathLst>
              <a:path w="21600" h="39834">
                <a:moveTo>
                  <a:pt x="3600" y="0"/>
                </a:moveTo>
                <a:arcTo wR="3600" hR="3600" stAng="16200000" swAng="-5400000"/>
                <a:lnTo>
                  <a:pt x="0" y="36234"/>
                </a:lnTo>
                <a:arcTo wR="3600" hR="3600" stAng="10800000" swAng="-5400000"/>
                <a:lnTo>
                  <a:pt x="18000" y="3983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53240" y="6458040"/>
            <a:ext cx="9399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896240" y="6442200"/>
            <a:ext cx="69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110440" y="466740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968640" y="49705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019400" y="51325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257720" y="5600880"/>
            <a:ext cx="63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976560" y="5637240"/>
            <a:ext cx="1100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797360" y="2120760"/>
            <a:ext cx="155520" cy="2044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4941720" y="4122720"/>
            <a:ext cx="312840" cy="495360"/>
            <a:chOff x="4941720" y="4122720"/>
            <a:chExt cx="312840" cy="495360"/>
          </a:xfrm>
        </p:grpSpPr>
        <p:sp>
          <p:nvSpPr>
            <p:cNvPr id="111" name=""/>
            <p:cNvSpPr/>
            <p:nvPr/>
          </p:nvSpPr>
          <p:spPr>
            <a:xfrm>
              <a:off x="5019840" y="41227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097960" y="42642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4980240" y="4476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097960" y="4476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941720" y="43704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 flipH="1">
            <a:off x="4800240" y="4495680"/>
            <a:ext cx="15228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594320" y="1905120"/>
            <a:ext cx="3240" cy="306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486400" y="2133720"/>
            <a:ext cx="2286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Document"/>
          <p:cNvSpPr/>
          <p:nvPr/>
        </p:nvSpPr>
        <p:spPr>
          <a:xfrm>
            <a:off x="6531120" y="4049640"/>
            <a:ext cx="56340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478560" y="411336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7"/>
          <a:stretch/>
        </p:blipFill>
        <p:spPr>
          <a:xfrm>
            <a:off x="8302680" y="161928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8547120" y="169560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7692840" y="18478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8"/>
          <a:stretch/>
        </p:blipFill>
        <p:spPr>
          <a:xfrm>
            <a:off x="5487840" y="4656240"/>
            <a:ext cx="293760" cy="5871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578560" y="491004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271840" y="4307040"/>
            <a:ext cx="1244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5192280" y="3227400"/>
            <a:ext cx="304920" cy="88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611680" y="2971800"/>
            <a:ext cx="838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 keys  (ZSK and old KSK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rot="11760600">
            <a:off x="5095800" y="5603040"/>
            <a:ext cx="2362320" cy="381240"/>
          </a:xfrm>
          <a:custGeom>
            <a:avLst/>
            <a:gdLst>
              <a:gd name="textAreaLeft" fmla="*/ 369000 w 2362320"/>
              <a:gd name="textAreaRight" fmla="*/ 2067120 w 236232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6032160" y="2158560"/>
            <a:ext cx="787320" cy="1892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5068800" y="4973760"/>
            <a:ext cx="45720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17156400">
            <a:off x="4858200" y="3420360"/>
            <a:ext cx="99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nly  include the 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0160" y="131436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Document"/>
          <p:cNvSpPr/>
          <p:nvPr/>
        </p:nvSpPr>
        <p:spPr>
          <a:xfrm>
            <a:off x="3468600" y="39877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414600" y="39877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444840" y="24382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4203720" y="3962520"/>
            <a:ext cx="312840" cy="501480"/>
            <a:chOff x="4203720" y="3962520"/>
            <a:chExt cx="312840" cy="501480"/>
          </a:xfrm>
        </p:grpSpPr>
        <p:sp>
          <p:nvSpPr>
            <p:cNvPr id="138" name=""/>
            <p:cNvSpPr/>
            <p:nvPr/>
          </p:nvSpPr>
          <p:spPr>
            <a:xfrm>
              <a:off x="4281840" y="396252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359960" y="41058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>
              <a:off x="4242240" y="43207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359960" y="43207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203720" y="42130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3216240" y="27590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254400" y="293364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211560" y="345276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508200" y="3429000"/>
            <a:ext cx="61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Document"/>
          <p:cNvSpPr/>
          <p:nvPr/>
        </p:nvSpPr>
        <p:spPr>
          <a:xfrm>
            <a:off x="2757600" y="541008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705040" y="548640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3276720" y="5334120"/>
            <a:ext cx="69696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2324160" y="5410080"/>
            <a:ext cx="312840" cy="501840"/>
            <a:chOff x="2324160" y="5410080"/>
            <a:chExt cx="312840" cy="501840"/>
          </a:xfrm>
        </p:grpSpPr>
        <p:sp>
          <p:nvSpPr>
            <p:cNvPr id="151" name=""/>
            <p:cNvSpPr/>
            <p:nvPr/>
          </p:nvSpPr>
          <p:spPr>
            <a:xfrm>
              <a:off x="2402280" y="54100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480400" y="55533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>
              <a:off x="2362680" y="57686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480400" y="57686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324160" y="56610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2171880" y="5105520"/>
            <a:ext cx="129528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171880" y="60958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540160" y="6083280"/>
            <a:ext cx="72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9499800">
            <a:off x="3506760" y="5574960"/>
            <a:ext cx="380880" cy="304920"/>
          </a:xfrm>
          <a:custGeom>
            <a:avLst/>
            <a:gdLst>
              <a:gd name="textAreaLeft" fmla="*/ 59400 w 380880"/>
              <a:gd name="textAreaRight" fmla="*/ 333360 w 3808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3897000" y="4495680"/>
            <a:ext cx="152280" cy="47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H="1" flipV="1">
            <a:off x="3962160" y="4076640"/>
            <a:ext cx="266760" cy="38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3733920" y="3645000"/>
            <a:ext cx="0" cy="342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rot="17400000">
            <a:off x="2324520" y="4183560"/>
            <a:ext cx="1338480" cy="304920"/>
          </a:xfrm>
          <a:custGeom>
            <a:avLst/>
            <a:gdLst>
              <a:gd name="textAreaLeft" fmla="*/ 209160 w 1338480"/>
              <a:gd name="textAreaRight" fmla="*/ 1171440 w 13384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3040" y="5181480"/>
            <a:ext cx="1143000" cy="1067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3040" y="60199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96880" y="598644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41200" y="5334120"/>
            <a:ext cx="106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cure Delegation – Parent Zone Activ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600200" y="5638680"/>
            <a:ext cx="457200" cy="228600"/>
          </a:xfrm>
          <a:prstGeom prst="leftRightArrow">
            <a:avLst>
              <a:gd name="adj1" fmla="val 50000"/>
              <a:gd name="adj2" fmla="val 3981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473120" y="6324480"/>
            <a:ext cx="1295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1828800" y="5867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3360" y="4788000"/>
            <a:ext cx="1447920" cy="18795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43080" y="635004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49Z</dcterms:modified>
  <cp:revision>154</cp:revision>
  <dc:subject/>
  <dc:title>Slide 1</dc:title>
</cp:coreProperties>
</file>